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2" spc="-1" strike="noStrike">
                <a:solidFill>
                  <a:srgbClr val="000000"/>
                </a:solidFill>
                <a:latin typeface="Arial"/>
              </a:defRPr>
            </a:pPr>
            <a:r>
              <a:rPr b="0" sz="1082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90778187636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355455568054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0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2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7.80813953488372</c:v>
                </c:pt>
                <c:pt idx="1">
                  <c:v>6.43023255813953</c:v>
                </c:pt>
                <c:pt idx="2">
                  <c:v>17.453488372093</c:v>
                </c:pt>
                <c:pt idx="3">
                  <c:v>15.6162790697674</c:v>
                </c:pt>
                <c:pt idx="4">
                  <c:v>8.26744186046512</c:v>
                </c:pt>
                <c:pt idx="5">
                  <c:v>8.26744186046512</c:v>
                </c:pt>
                <c:pt idx="6">
                  <c:v>3.67441860465116</c:v>
                </c:pt>
                <c:pt idx="7">
                  <c:v>8.267441860465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83720930232558</c:v>
                </c:pt>
                <c:pt idx="15">
                  <c:v>1.37790697674419</c:v>
                </c:pt>
              </c:numCache>
            </c:numRef>
          </c:val>
        </c:ser>
        <c:gapWidth val="100"/>
        <c:overlap val="0"/>
        <c:axId val="5779238"/>
        <c:axId val="15270553"/>
      </c:barChart>
      <c:catAx>
        <c:axId val="577923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70553"/>
        <c:crossesAt val="0"/>
        <c:auto val="1"/>
        <c:lblAlgn val="ctr"/>
        <c:lblOffset val="100"/>
        <c:noMultiLvlLbl val="0"/>
      </c:catAx>
      <c:valAx>
        <c:axId val="15270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23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497666770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0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3023255813953</c:v>
                </c:pt>
                <c:pt idx="1">
                  <c:v>4.88372093023256</c:v>
                </c:pt>
                <c:pt idx="2">
                  <c:v>13.2558139534884</c:v>
                </c:pt>
                <c:pt idx="3">
                  <c:v>11.8604651162791</c:v>
                </c:pt>
                <c:pt idx="4">
                  <c:v>6.27906976744186</c:v>
                </c:pt>
                <c:pt idx="5">
                  <c:v>6.27906976744186</c:v>
                </c:pt>
                <c:pt idx="6">
                  <c:v>2.7906976744186</c:v>
                </c:pt>
                <c:pt idx="7">
                  <c:v>6.2790697674418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53488372093</c:v>
                </c:pt>
                <c:pt idx="15">
                  <c:v>1.04651162790698</c:v>
                </c:pt>
              </c:numCache>
            </c:numRef>
          </c:val>
        </c:ser>
        <c:gapWidth val="100"/>
        <c:overlap val="0"/>
        <c:axId val="34675520"/>
        <c:axId val="3904148"/>
      </c:barChart>
      <c:catAx>
        <c:axId val="3467552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4148"/>
        <c:crossesAt val="0"/>
        <c:auto val="1"/>
        <c:lblAlgn val="ctr"/>
        <c:lblOffset val="100"/>
        <c:noMultiLvlLbl val="0"/>
      </c:catAx>
      <c:valAx>
        <c:axId val="3904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7552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6445900478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63538161856"/>
          <c:y val="0.209473815773028"/>
          <c:w val="0.959978749778644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2558139534884</c:v>
                </c:pt>
                <c:pt idx="1">
                  <c:v>5.20930232558139</c:v>
                </c:pt>
                <c:pt idx="2">
                  <c:v>14.1395348837209</c:v>
                </c:pt>
                <c:pt idx="3">
                  <c:v>12.6511627906977</c:v>
                </c:pt>
                <c:pt idx="4">
                  <c:v>6.69767441860465</c:v>
                </c:pt>
                <c:pt idx="5">
                  <c:v>6.69767441860465</c:v>
                </c:pt>
                <c:pt idx="6">
                  <c:v>2.97674418604651</c:v>
                </c:pt>
                <c:pt idx="7">
                  <c:v>6.6976744186046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48837209302326</c:v>
                </c:pt>
                <c:pt idx="15">
                  <c:v>1.11627906976744</c:v>
                </c:pt>
              </c:numCache>
            </c:numRef>
          </c:val>
        </c:ser>
        <c:gapWidth val="100"/>
        <c:overlap val="0"/>
        <c:axId val="39127450"/>
        <c:axId val="17168473"/>
      </c:barChart>
      <c:catAx>
        <c:axId val="3912745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8473"/>
        <c:crossesAt val="0"/>
        <c:auto val="1"/>
        <c:lblAlgn val="ctr"/>
        <c:lblOffset val="100"/>
        <c:noMultiLvlLbl val="0"/>
      </c:catAx>
      <c:valAx>
        <c:axId val="17168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2745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28" spc="-1" strike="noStrike">
                <a:solidFill>
                  <a:srgbClr val="000000"/>
                </a:solidFill>
                <a:latin typeface="Arial"/>
              </a:defRPr>
            </a:pPr>
            <a:r>
              <a:rPr b="1" sz="1428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6138319148"/>
          <c:y val="0.020261263663023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060508813544"/>
          <c:y val="0.209277525993069"/>
          <c:w val="0.959955350913911"/>
          <c:h val="0.77006131698213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</c:v>
                </c:pt>
                <c:pt idx="3">
                  <c:v>3</c:v>
                </c:pt>
                <c:pt idx="4">
                  <c:v>2</c:v>
                </c:pt>
                <c:pt idx="5">
                  <c:v>2</c:v>
                </c:pt>
                <c:pt idx="6">
                  <c:v>2</c:v>
                </c:pt>
                <c:pt idx="7">
                  <c:v>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4302325581395</c:v>
                </c:pt>
                <c:pt idx="1">
                  <c:v>3.98837209302326</c:v>
                </c:pt>
                <c:pt idx="2">
                  <c:v>10.8255813953488</c:v>
                </c:pt>
                <c:pt idx="3">
                  <c:v>9.68604651162791</c:v>
                </c:pt>
                <c:pt idx="4">
                  <c:v>5.12790697674419</c:v>
                </c:pt>
                <c:pt idx="5">
                  <c:v>5.12790697674419</c:v>
                </c:pt>
                <c:pt idx="6">
                  <c:v>2.27906976744186</c:v>
                </c:pt>
                <c:pt idx="7">
                  <c:v>5.12790697674419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3953488372093</c:v>
                </c:pt>
                <c:pt idx="15">
                  <c:v>0.854651162790698</c:v>
                </c:pt>
              </c:numCache>
            </c:numRef>
          </c:val>
        </c:ser>
        <c:gapWidth val="100"/>
        <c:overlap val="0"/>
        <c:axId val="87299229"/>
        <c:axId val="40885345"/>
      </c:barChart>
      <c:catAx>
        <c:axId val="872992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5345"/>
        <c:crossesAt val="0"/>
        <c:auto val="1"/>
        <c:lblAlgn val="ctr"/>
        <c:lblOffset val="100"/>
        <c:noMultiLvlLbl val="0"/>
      </c:catAx>
      <c:valAx>
        <c:axId val="40885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922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47535665081552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355455568054"/>
          <c:w val="0.959912892760322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3</c:v>
                </c:pt>
                <c:pt idx="2">
                  <c:v>5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3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7397260273973</c:v>
                </c:pt>
                <c:pt idx="1">
                  <c:v>3.20547945205479</c:v>
                </c:pt>
                <c:pt idx="2">
                  <c:v>9.08219178082192</c:v>
                </c:pt>
                <c:pt idx="3">
                  <c:v>8.54794520547945</c:v>
                </c:pt>
                <c:pt idx="4">
                  <c:v>3.73972602739726</c:v>
                </c:pt>
                <c:pt idx="5">
                  <c:v>3.73972602739726</c:v>
                </c:pt>
                <c:pt idx="6">
                  <c:v>1.06849315068493</c:v>
                </c:pt>
                <c:pt idx="7">
                  <c:v>3.739726027397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534246575342466</c:v>
                </c:pt>
                <c:pt idx="15">
                  <c:v>1.06849315068493</c:v>
                </c:pt>
              </c:numCache>
            </c:numRef>
          </c:val>
        </c:ser>
        <c:gapWidth val="100"/>
        <c:overlap val="0"/>
        <c:axId val="31716358"/>
        <c:axId val="82406306"/>
      </c:barChart>
      <c:catAx>
        <c:axId val="3171635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6306"/>
        <c:crossesAt val="0"/>
        <c:auto val="1"/>
        <c:lblAlgn val="ctr"/>
        <c:lblOffset val="100"/>
        <c:noMultiLvlLbl val="0"/>
      </c:catAx>
      <c:valAx>
        <c:axId val="82406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1635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24781120839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2</c:v>
                </c:pt>
                <c:pt idx="2">
                  <c:v>4</c:v>
                </c:pt>
                <c:pt idx="3">
                  <c:v>6</c:v>
                </c:pt>
                <c:pt idx="4">
                  <c:v>1</c:v>
                </c:pt>
                <c:pt idx="5">
                  <c:v>2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767123287671</c:v>
                </c:pt>
                <c:pt idx="1">
                  <c:v>2.46575342465753</c:v>
                </c:pt>
                <c:pt idx="2">
                  <c:v>6.98630136986301</c:v>
                </c:pt>
                <c:pt idx="3">
                  <c:v>6.57534246575343</c:v>
                </c:pt>
                <c:pt idx="4">
                  <c:v>2.87671232876712</c:v>
                </c:pt>
                <c:pt idx="5">
                  <c:v>2.87671232876712</c:v>
                </c:pt>
                <c:pt idx="6">
                  <c:v>0.821917808219178</c:v>
                </c:pt>
                <c:pt idx="7">
                  <c:v>2.876712328767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10958904109589</c:v>
                </c:pt>
                <c:pt idx="15">
                  <c:v>0.821917808219178</c:v>
                </c:pt>
              </c:numCache>
            </c:numRef>
          </c:val>
        </c:ser>
        <c:gapWidth val="100"/>
        <c:overlap val="0"/>
        <c:axId val="4426805"/>
        <c:axId val="25883889"/>
      </c:barChart>
      <c:catAx>
        <c:axId val="442680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83889"/>
        <c:crossesAt val="0"/>
        <c:auto val="1"/>
        <c:lblAlgn val="ctr"/>
        <c:lblOffset val="100"/>
        <c:noMultiLvlLbl val="0"/>
      </c:catAx>
      <c:valAx>
        <c:axId val="25883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680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3669614683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5</c:v>
                </c:pt>
                <c:pt idx="2">
                  <c:v>2</c:v>
                </c:pt>
                <c:pt idx="3">
                  <c:v>5</c:v>
                </c:pt>
                <c:pt idx="4">
                  <c:v>2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767123287671</c:v>
                </c:pt>
                <c:pt idx="1">
                  <c:v>2.46575342465753</c:v>
                </c:pt>
                <c:pt idx="2">
                  <c:v>6.98630136986301</c:v>
                </c:pt>
                <c:pt idx="3">
                  <c:v>6.57534246575343</c:v>
                </c:pt>
                <c:pt idx="4">
                  <c:v>2.87671232876712</c:v>
                </c:pt>
                <c:pt idx="5">
                  <c:v>2.87671232876712</c:v>
                </c:pt>
                <c:pt idx="6">
                  <c:v>0.821917808219178</c:v>
                </c:pt>
                <c:pt idx="7">
                  <c:v>2.8767123287671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10958904109589</c:v>
                </c:pt>
                <c:pt idx="15">
                  <c:v>0.821917808219178</c:v>
                </c:pt>
              </c:numCache>
            </c:numRef>
          </c:val>
        </c:ser>
        <c:gapWidth val="100"/>
        <c:overlap val="0"/>
        <c:axId val="48263364"/>
        <c:axId val="32106998"/>
      </c:barChart>
      <c:catAx>
        <c:axId val="4826336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06998"/>
        <c:crossesAt val="0"/>
        <c:auto val="1"/>
        <c:lblAlgn val="ctr"/>
        <c:lblOffset val="100"/>
        <c:noMultiLvlLbl val="0"/>
      </c:catAx>
      <c:valAx>
        <c:axId val="32106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336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381138616062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6</c:v>
                </c:pt>
                <c:pt idx="1">
                  <c:v>7</c:v>
                </c:pt>
                <c:pt idx="2">
                  <c:v>1</c:v>
                </c:pt>
                <c:pt idx="3">
                  <c:v>3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83561643835616</c:v>
                </c:pt>
                <c:pt idx="1">
                  <c:v>2.87671232876712</c:v>
                </c:pt>
                <c:pt idx="2">
                  <c:v>8.15068493150685</c:v>
                </c:pt>
                <c:pt idx="3">
                  <c:v>7.67123287671233</c:v>
                </c:pt>
                <c:pt idx="4">
                  <c:v>3.35616438356164</c:v>
                </c:pt>
                <c:pt idx="5">
                  <c:v>3.35616438356164</c:v>
                </c:pt>
                <c:pt idx="6">
                  <c:v>0.958904109589041</c:v>
                </c:pt>
                <c:pt idx="7">
                  <c:v>3.3561643835616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479452054794521</c:v>
                </c:pt>
                <c:pt idx="15">
                  <c:v>0.958904109589041</c:v>
                </c:pt>
              </c:numCache>
            </c:numRef>
          </c:val>
        </c:ser>
        <c:gapWidth val="100"/>
        <c:overlap val="0"/>
        <c:axId val="93104242"/>
        <c:axId val="12170983"/>
      </c:barChart>
      <c:catAx>
        <c:axId val="931042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0983"/>
        <c:crossesAt val="0"/>
        <c:auto val="1"/>
        <c:lblAlgn val="ctr"/>
        <c:lblOffset val="100"/>
        <c:noMultiLvlLbl val="0"/>
      </c:catAx>
      <c:valAx>
        <c:axId val="12170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424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1AF-D3FC-4CAA-9F61-512E97A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B3B-D514-4C37-A1C9-7691D697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53B-DF6F-470D-BF73-A354C8F1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53-D89E-4FF1-90D0-124478E9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82E-498E-430D-B1EA-0AA9A937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802-9EBE-4C70-BB7D-833BD6D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C7D-B511-4039-A9C1-22B757B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A99-F768-4843-83B9-CA275593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954-21E8-493A-9965-1E1FD526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C4E-E555-4EEA-9FBF-094FA82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7CE-0BAB-4EE8-8DAA-034460C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EB2-B58B-411A-AC81-C67A457A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54C-A7B1-416C-83BF-EDACA71C20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cronograma%20de%20a&#231;&#227;o%20das%20escolas/cronograma%20de%20a&#231;&#227;o%20EEPA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E PADRE ANCHIETA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42920" y="1571760"/>
          <a:ext cx="7129440" cy="2487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6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1857240" y="41432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7240" y="41432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4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MICHELE PIC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42920" y="157176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Object 5"/>
          <p:cNvGraphicFramePr/>
          <p:nvPr/>
        </p:nvGraphicFramePr>
        <p:xfrm>
          <a:off x="2000160" y="42148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42148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4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1785960" y="42861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4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8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928880" y="42148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2148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4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45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1928880" y="40719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0719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Ed. Religi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 Port / Ciê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74,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25,23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Inglês / Prod. Intera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Ed. Física / Artes / Port / Mat / Ciê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30,0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69,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ixaDeTexto 4"/>
          <p:cNvSpPr/>
          <p:nvPr/>
        </p:nvSpPr>
        <p:spPr>
          <a:xfrm>
            <a:off x="2643120" y="5500800"/>
            <a:ext cx="357192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 loco; 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Pontos a refleti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Apresentar e discutir cronograma de ações NTE/STE para o 2º semestre; (Doug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2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SÔNIA DE ARAUJO PE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42920" y="157176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1928880" y="43578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3578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1643040" y="428616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304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4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42920" y="1571760"/>
          <a:ext cx="7129440" cy="2525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9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1928880" y="414324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414324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4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Luciana Catarino</cp:lastModifiedBy>
  <dcterms:modified xsi:type="dcterms:W3CDTF">2009-07-10T15:03:12Z</dcterms:modified>
  <cp:revision>17</cp:revision>
  <dc:subject/>
  <dc:title>EE PADRE ANCHIETA NOVA ANDRADINA - MS</dc:title>
</cp:coreProperties>
</file>